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657-13E5-4FCA-9DD3-E40BB42EDF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C3A-F37D-482C-AD5D-98CB7D9BA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C4D-7A54-4221-BEEB-06C32A57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312-44E5-4685-9F27-50F6B8E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C62-9BB1-4FA0-A267-AA85C0B6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01E-769F-452B-BFBB-9AB88CF3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02B-386F-408F-B911-BDABD70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41C-982B-418C-B464-ED3A485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2F9-C9A5-45CD-8C42-8CE6CAE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708-1E22-45A3-8E27-C19E7D0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450-96A7-4F4B-A61A-DC7F977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776-AF59-4E61-97A4-CF2C0DC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44E-FB74-4BA9-BAD1-790DB57F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AED-9158-487A-88CC-1327BC4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19F-91F5-4B1C-91BA-1516E576A5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82D1E672-9AEB-4095-9E1C-6E25B20BB3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804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ν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a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8280"/>
                <a:gridCol w="1103400"/>
                <a:gridCol w="1977840"/>
                <a:gridCol w="1212840"/>
                <a:gridCol w="1622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D9252DF8-A190-4662-9462-E8F25471C8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0"/>
          <p:cNvSpPr/>
          <p:nvPr/>
        </p:nvSpPr>
        <p:spPr>
          <a:xfrm>
            <a:off x="1785960" y="318600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661DBA51-BD02-4D38-A568-B346CB001F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22"/>
          <p:cNvCxnSpPr>
            <a:stCxn id="99" idx="3"/>
            <a:endCxn id="100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AD00E2F0-AE23-4692-8208-9EA38E484D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1680"/>
                <a:gridCol w="1200240"/>
                <a:gridCol w="1195200"/>
                <a:gridCol w="1424160"/>
                <a:gridCol w="1096920"/>
                <a:gridCol w="1171440"/>
                <a:gridCol w="13240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fld id="{3CA80056-43E9-42F9-84F3-969D89029B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5200"/>
                <a:gridCol w="18669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9-07-11T10:35:26Z</dcterms:modified>
  <cp:revision>52</cp:revision>
  <dc:subject/>
  <dc:title>Slide 1</dc:title>
</cp:coreProperties>
</file>